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99BC3-4EB9-444B-9F7C-F27E43B86B46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kaidrės numerio vietos rezervavimo ženklas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F0595-9837-42FA-AD2B-2E80E1D6C8F2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4B3-615C-4D4F-BE98-20653854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378-B4DC-4648-9F8D-1E45D3DF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667-DAE8-496A-8F4D-200DF6B5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E28-C1A0-4F63-82BD-164E7DB6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C4B-CE69-4D7D-B1DE-F80B8775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E85-1A02-4D16-AC6E-BE206658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F29-064B-4804-A4F8-5EDD8F90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A27-FF6C-4769-BB18-7D005530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361-6C27-4DDA-97F3-C7868134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82B-B018-4FED-92EE-2AD6BF8D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600-AA06-4090-B515-D6D17376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B64-E483-4104-BB16-F26859B6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A2B59-B474-495E-B36E-A6AFA648B30B}" type="datetime">
              <a:rPr b="0" lang="lt-LT" sz="1200" spc="-1" strike="noStrike">
                <a:solidFill>
                  <a:srgbClr val="898989"/>
                </a:solidFill>
                <a:latin typeface="Calibri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EA126-C3C5-48F3-96F8-258BF74022FD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Žiniasklaidos įtaka visuomenės formavimu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898989"/>
                </a:solidFill>
                <a:latin typeface="Calibri"/>
              </a:rPr>
              <a:t>Kas lemia mūsų požiūrį į visuomenės proble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Iš kur gauname informacij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Laikrašč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Naujienų porta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ensinio amžiaus kaimynė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Tėv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Facebook“ ir t. 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79993-CB8F-4D68-91F7-630FBED004B6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Kodėl žurnalistai kelia pasitikėjim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prastai žmogus būna vienos ar kelių sričių ekspertas, bet ne vis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as irgi nėra vienos  srities ekspertas, bet jis po truputį išmano daugybę sriči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ai kasdien kalbasi su įvairių sričių ekspertais ir pateikia jų nuomon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Kai kurie žurnalistai taip pat yra puikūs srities, apie kurią daug rašo, eksperta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36DE8-C261-4FD3-81C5-2EAED087BCE4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as yra mūsų akys į pasaulį, nes žiniasklaidos kuriamą pasaulį suprantame taip, kaip jis jį mums pateik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Juokaujama, kad tai, ką žurnalistas pateikia kaip problemą, visuomenėje ir tampa probl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474C8-1B10-4834-8F33-CCA853257C60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Kodėl tai gera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Turime daug akių ir aus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Sutaupome galybę laik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Ne kiekvienas turime tokių kompetencijų, kad sužinotume svarbią informacij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iniasklaida iškelia problemas, kurių šiaip nepastebėtumė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FCD06-1FBF-4EF3-825A-778CC81F1F47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Kodėl tai bloga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Skaitytoju galima manipuliuo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o klaidų aukomis tampa skaitytoj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Kartais perskaitę naujieną turime klausimų, kurių negalime pasitiksli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as nesąmoningai savo publikacija paskatina problemą suvokti viena ar kita link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9BE6E-8A53-4EE4-8E85-EC023CFB333B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ublikacija yra ne tik situacijos atspindys ar problemos analizė, bet ir žurnalisto vertybių, požiūrių bei pasirinkimų rezulta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E7DF4-7B36-4C0D-A099-2563738F0F34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Žiniasklaida ir bendruomenė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iniasklaida ne tik formuoja visuomenės nuomonę ir darbotvarkę, bet ir jungia individus į bendruome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gal kalb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gal laik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gal idėj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55528-9046-40FC-AA32-AD69A8CD2D25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7:56:35Z</dcterms:created>
  <dc:creator>Egidijus Jurgelionis</dc:creator>
  <dc:description/>
  <dc:language>en-US</dc:language>
  <cp:lastModifiedBy>Gražina Jurgutavičiūtė</cp:lastModifiedBy>
  <dcterms:modified xsi:type="dcterms:W3CDTF">2015-12-28T14:32:03Z</dcterms:modified>
  <cp:revision>30</cp:revision>
  <dc:subject/>
  <dc:title>Žiniasklaidos įtaka visuomenės formavimuisi </dc:title>
</cp:coreProperties>
</file>